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F4D-69B6-473A-B354-83F2E8BA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56E-0B8C-4EF0-A41B-80C5091E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3E7-0BE2-4981-8D8A-1FDF9528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B77-BC29-40DD-80C8-D505B0F5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674-A646-4C34-B8D1-97E2843E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324-C0A9-444F-9040-5DAD1CD4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182-3B00-42C3-851E-5B424134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E84-BF15-45B2-8483-AEAA570A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214-ED80-409E-81BD-6C6FE296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269-1D02-4F86-AF27-6F1867C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310-C04B-4E6E-AD41-759F6A58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77A-6D7C-4161-9E0D-96C88E2A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046D-DD77-48FE-B730-19255DD4F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litopys.net/img/thisday/Mart/20-03/snegirev.jpg"/>
          <p:cNvPicPr/>
          <p:nvPr/>
        </p:nvPicPr>
        <p:blipFill>
          <a:blip r:embed="rId2"/>
          <a:stretch/>
        </p:blipFill>
        <p:spPr>
          <a:xfrm>
            <a:off x="171360" y="4334040"/>
            <a:ext cx="2041560" cy="2481120"/>
          </a:xfrm>
          <a:prstGeom prst="rect">
            <a:avLst/>
          </a:prstGeom>
          <a:ln w="0">
            <a:noFill/>
          </a:ln>
        </p:spPr>
      </p:pic>
    </p:spTree>
  </p:cSld>
  <p:transition advTm="0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3:06:54Z</dcterms:created>
  <dc:creator>Helen</dc:creator>
  <dc:description/>
  <dc:language>en-US</dc:language>
  <cp:lastModifiedBy>Берюхов</cp:lastModifiedBy>
  <dcterms:modified xsi:type="dcterms:W3CDTF">2025-11-30T08:01:56Z</dcterms:modified>
  <cp:revision>6</cp:revision>
  <dc:subject/>
  <dc:title>Слайд 1</dc:title>
</cp:coreProperties>
</file>